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180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1800" y="873720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73720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8E50-C80F-48C8-8881-573602C5D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52EB-85EC-42C2-9346-78C1B51DEA0C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3CD6-F2AA-4087-8C3A-A73B4FF01DF4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8C33-4144-482D-9F2F-D4EBF01B4CB2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77E4-215A-4AD4-AAA5-0DCDDF6B52EC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971B-BADC-4CA6-AE69-CA8B077BEC69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754E-263F-4190-810F-D0D93A48CC60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51B6-6934-4EDD-A1C9-53FAF3433EAA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02A1-179B-4395-9C29-D21091EBDFFA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AF5A-24C3-458E-BFAF-93E7E3FEFBD2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FE48-4B35-4D9C-8FCB-2177B487FFF5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93F5-DA0F-4FEE-84DD-780ACC8232C7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64DC-B3BB-469E-8DEF-1DBEEB2C6A42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9920-8C22-44B9-8A30-077B63B8322C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4E0E-ACB9-4152-9B54-64A2C9A07BD8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12E2-9B62-4015-BE38-66381883055F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C434-6504-4C13-8599-29A74D70796D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8523-71D4-404E-B1A8-3D154FEA95A4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A60A-BBAB-4B1F-934A-ECF51DCA5582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73CB-A6F1-41AC-8EC1-3346A2976B31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98EA-4569-4E0A-B35E-A570F3B933C2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263A-4170-47D3-89C7-32E6DFDE1771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PERSONS WITH T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gnitive deficits: Misperception and poor memory, reasoning, and problem-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and Psychological: Easily distracted; organizational defic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g out and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ocial disinhib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k of initiative, inability to adapt quickly, preservation, low frustration level, passive-aggressive, anxious/dep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a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gu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 CHARACTERISTICS OF PERSONS WITH T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gmatic problems most persis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versations and nar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ehension difficul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antic difficulties with figurative language and multiple and abstract mea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FCBC-6CFC-4136-B59A-13CBDBA5145F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0D10-8D8F-4576-9376-56D472E46874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9950-E0DD-41BB-8AFA-27DA2B1E7DF5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B64A-382B-41C6-A8C5-95F6B0EA97A3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AFC3-9B9B-4937-AE97-E5D43962EDFF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9897-501C-4227-8FF8-C48DC7DA0263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9E5C-C8FC-437B-B329-6A762E46BBEB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0043-AA53-4BC3-8223-A13BC3EB3344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26E5-F9A5-4E18-93DA-36C7B82B3824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D754-6FE5-404C-9189-8EE30619DF74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4322-663E-4D46-9D15-983CA254E8F4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ter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ymbolic and early symbolic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, semantic categories, word combinations, inten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augmentative/alternative communication (AAC)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 form and continued vocabulary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functioning 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ational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an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ademic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 and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olescents and adults may continue to need services especially as life offers new challe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4070-3326-4C99-8C67-57963651CB5D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FD84-E1A7-4273-8D15-47B8A8F978BB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EE56-3FED-4ABA-B3B3-25C9E3ACF187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2FD9-6066-47BB-A65D-A2B9487B0CBC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737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B267-D1DF-4032-BD88-9A0552A70594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4360" y="4370400"/>
            <a:ext cx="54878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2E6E-87A8-4D0B-9806-3F9BF0D18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40DB-6B5A-4D2C-8C6C-683F1925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8F98-90CF-4C8A-87FB-5E621FB39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0416-34FB-49EE-AF64-633F864B8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F8F5-ECA7-4AD8-BAC5-69D5E7977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6546-E3E9-4F8D-8F7A-29F4C613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B0C1-9A25-45D5-82C3-3199992F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C008-57CA-4E73-B7C1-4099602D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7551-1ADF-48F8-887A-AD0AB266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939C-A979-4DD1-A6AD-215BDD92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4B14-8CA5-4B70-99B6-22215FB6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BB24-5B24-4ED1-AB54-A786A73F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05DD-BE16-43B7-BAA2-1EADBD79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B81D-439D-483D-8115-CB159E67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02F0-E589-49D4-9BD0-9D893221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B3C0-E940-4F70-8556-5C340713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EB3D-EB62-4C43-87C1-3BED992BB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8BF5-7E51-4DB6-A9A0-547236AE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B663-794E-4653-9C67-215D6D93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6D14-63CB-45C6-B3D5-BC13BD50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D631-7657-4E4D-8492-B8F744A6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9C2B-D2C6-41EF-8865-4D333453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F626-BAB6-423F-89E1-39611C8D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640A-7388-4902-9976-F7CCB8A2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9507-C531-4A67-A57F-64E8927CF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5BD7-B1F6-407E-B69D-9E59320CF0BB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unl.edu/asdnetwork/images/umbrella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39116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apter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hildhood Language Impair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0066"/>
                </a:solidFill>
                <a:latin typeface="Arial"/>
              </a:rPr>
              <a:t>LANGUAGE DEVELOPMENT ADUL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ult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continues but at slower 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ults add new words and perfect grammatical forms, especially wri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continue to develop if no neuropath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ized vocabu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s work environment, religion, hobbi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ASSOCIATED DISORDERS AND RELATED CAUS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ntal retardation/intellectual dis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rning disabil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fic language impair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ism spectrum disorder &amp; PD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ain inju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glect and ab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tal alcohol syndrome and drug-exposed childr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MENTAL RETARDATION/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INTELLECTUAL DISABILI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called Intellectual Disability (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z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tantial limitations in intellectual funct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cant limitations in adaptive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ifests before age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ity based on IQ, ranges from mild to prof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ity based on I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2-6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r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6-5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-3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ou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ow 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MENTAL RETARDATION/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INTELLECTUAL DISABILI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s can be Biological or Socio-Environ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log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tic &amp; chromosomal abnorm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nal inf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xins &amp; chemical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tritional and metabolic c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tational dis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ications from pregnancy &amp;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in dis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o-environ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of information is challe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and retrieval of information is poor and 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MENTAL RETARDATION/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INTELLECTUAL DISABILI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abilities can be below cognitive 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wer rate of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, begin to deviate from typical developmen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horter, more immature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areas of language can exhibit defic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INFORMATIONAL PROCESSING DIFFERENCES IN M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ten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rimin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MENTAL RETARDATION/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INTELLECTUAL DISABILI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fespan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y inter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lacement depends on seve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, self-contained classroom, special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ulth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living and competitive 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family or in group home and supervised employment or day treatment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EARNING DISABILITI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iculties in acquisition and use of listening, speaking, reading, writing, reasoning, or mathemat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% of all individuals have LD, but severity varies wid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-learning disabilit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marily difficulty learning and using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fects males more than fem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ANGUAGE CHARACTERISTICS OF PERSONS WITH L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aspects of language may be affected in both written and spoken language for reception and p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y with give-and-take of conver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y synthesizing rules, especially syntax and morph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 find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ow oral language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ttle interest in languag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in academic underachie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equent communication breakdow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EARNING DISABILITI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ention Deficit Hyperactivity Disorder (ADH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lying neurological impairment in executive functioning that regulates behavior, causing impuls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slex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y comprehending or producing written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many as 80% of those with LD have some form of reading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0066"/>
                </a:solidFill>
                <a:latin typeface="Arial"/>
              </a:rPr>
              <a:t>CHILDHOOD LANGUAGE IMPAIRM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2209680"/>
            <a:ext cx="7010640" cy="342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guage impair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guage development through the lifesp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ociated disorders and related cau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ven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EARNING DISABILITI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high as 80% of children with LD have some form of reading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aspects of language may be aff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ut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use of fillers and circumlocution associated with word-finding difficulties, rapid speech, repetitions, and lack of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LEARNING DISABILITI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880" y="16765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fespan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tle interest in language or books in pre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w oral languag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require special education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successful with accommodations in the class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children seem to outgrow their dis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have successful professional car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require lifelong adap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SPECIFIC LANGUAGE IMPAIR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ly 10-15% of middle-class U.S. children have delayed language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impairment in language functio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performance significantly lower than intellectual performance (like 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hibit some information processing and memory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prevalence in families with a history of speech and language proble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males than females have S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SPECIFIC LANGUAGE IMPAIR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nguage Characteristic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fficulty with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ing regularities from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appropriate use of language forms cause pragmatic problem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cits in recognizing the impact of and expressing emo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fficulty with grammatical mark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y speak slowly with frequent disrup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ess efficient use of synta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fficulty using context for vocabulary develop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SPECIFIC LANGUAGE 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IMPAIR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fespan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choolers with SLI are viewed negatively by pe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or social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are later identified as having 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adolescents with SLI view themselves negatively and are less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UTISM SPECTRUM AND PERVASIVE DEVELOPMENTAL DISORDERS</a:t>
            </a: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ism Spectrum Disorder (AS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ative impairment 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icted repetitive and stereotyped patterns of behavior, interests and activ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urbance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al rates and sequence of motor, social-adaptive, and cognitive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 to sensory stimu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ch/language, cognition, nonverbal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y to appropriately relate to people, objects, and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perger's syndr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 intelligence and typical language development with deficits in social and communication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d you know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47560" y="13716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stimated 1 out of 54 boys and 1 in 252 girls are diagnosed with autism in the United Sta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ism prevalence figures are gro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children will be diagnosed with autism this year than with AIDS, diabetes &amp; cancer comb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ism is the fastest-growing serious developmental disability in the U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utismspeaks.or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160" y="533088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www.unl.edu/asdnetwork/images/umbrella.png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270000" y="460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270000" y="460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74" name="Picture 9" descr="umbrella"/>
          <p:cNvPicPr/>
          <p:nvPr/>
        </p:nvPicPr>
        <p:blipFill>
          <a:blip r:embed="rId2"/>
          <a:stretch/>
        </p:blipFill>
        <p:spPr>
          <a:xfrm>
            <a:off x="2286000" y="152388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UTISM SPECTRUM AND PERVASIVE DEVELOPMENTAL DISO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O medical test for autis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agnosis based on observed behavior and educational and psychological testing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ause (autismspeaks.org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25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ver the last five years, scientists have identified number of rare gene changes, or mutations, associated with autism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25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 small number of these are sufficient to cause autism by themselve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25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 most cases, appears to be caused by a combination of autism risk genes and environmental factors influencing early brain development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idence is higher in those with a family histo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les are affected more often than femal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hysical and Medical Issues that may Accompany Autis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25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izure Disord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25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enetic Disord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25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I Disord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25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leep Dysfunc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25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nsory Integration Dysfunction 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25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AUTISM SPECTRUM AND PERVASIVE DEVELOPMENTAL DISO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span 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ually identified by 2-3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ilure to bond as inf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ayed speech and language, lack of gestures and verbal respo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onstrate </a:t>
            </a: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echola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ilure to meet developmental milestones may indicate need for 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babbling by 12 mon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gesturing by 12 mon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single words by 16 mon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2-word spontaneous speech by 24 mon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s of language or social skills at any age (Pragmatics &amp; Semanti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sinterpret subtleties of conver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ucational placement depends on seve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ular e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al e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live independently and hold a jo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live similarly to those with ID/M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66"/>
                </a:solidFill>
                <a:latin typeface="Arial"/>
              </a:rPr>
              <a:t>LANGUAGE IMPAIR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80720" y="1676520"/>
            <a:ext cx="6426360" cy="35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mental and/or acquired disorders and/or del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fects spoken and/or written language in comprehension and/or p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olves one or more aspects of langu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NOT a language dif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RAIN INJU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s traumatic brain injury (TBI), stroke, congenital malformation, convulsive disorders, and encephalopat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B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use brain damage due to external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million children and adolescents in U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e and extent of lesion, age at onset, and age of injury impacts recovery/post accident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 of cognitive, physical, behavioral, academic, and linguistic defic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logical maladjustment or acting-out behaviors calle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ocial disinhib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y occu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6095880" y="6248520"/>
            <a:ext cx="2667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RAIN INJU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guage Character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ident even after mild inju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deficits remain long after injury (pragmatic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guage comprehension and higher level language are often affected, but not 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d retrieval, naming, and object description are diffic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rration is often diffic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BRAIN INJU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3880" y="16002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fespan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ediately after acc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unconsciousness and amne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and personality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may take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ontaneous recovery in the first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ral recovery is unpredictable and ir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ng children often recover quick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recover language AND continue to learn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er children have more to recover from memory but less new information to lear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subtle cognitive and social deficits pers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NEGLECT AND ABU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illion children per year in the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gmatics aff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alkative with fewer conversational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likely to voluntee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er and less complex utter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span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recurring physical, psychological, and emotional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FETAL ALCOHOL SYNDROME 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AND DRUG-EXPOSED </a:t>
            </a:r>
            <a:br>
              <a:rPr sz="3800"/>
            </a:b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CHILDR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3880" y="2042640"/>
            <a:ext cx="7010640" cy="39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in every 500-600 live bir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osure to alcohol during embryonic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w birth weight, CNS dysfunction, growth deficiency, dysmorphic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nstrate hyperactivity, motor problems, attention deficits, cognitive disabi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n IQ is in borderline ID/MR r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ug-exposed child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w birth weight and small head circumfer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ittery and irri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FETAL ALCOHOL SYNDROME AND DRUG-EXPOSED CHILDR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8229600" cy="422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: Delayed oral language, echolalia, comprehension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exposure: Few vocalizations, inappropriate gesture, language defic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hind peers in reading and acade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fespan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likely to die and have developmental difficul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egiver-infant bonding may be disru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have like children with 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OTHER LANGUAGE IMPAIRM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clude: Nonspecific language impairment, Late talkers, Childhood schizophrenia, Selective mutism, Otitis media, Children who received cochlear impla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ildren with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LI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have a general delay in language development, a nonverbal IQ of 86 or lower, and no obvious sensory or perceptual deficit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ild health is an important factor among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ate talker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hildhood schizophreni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is uncommon; about half have language delay (pragmatics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lective mutis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children do not speak in specific situations although they speak in other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effect of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hronic otitis medi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can be delayed language developmen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ildren who receive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chlear implant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have relatively typical language development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ASSESS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47560" y="16765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erral and scree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presence or absence of a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ral and evaluation may occur in an interdisciplinary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se history and int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5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uence of context on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hypotheses from ob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ASSESS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ed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variety of discourse types and contex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for later tran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tative and qualitative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de Swi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 samples of written language for those with literacy difficult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Arial"/>
              </a:rPr>
              <a:t>INTERVEN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23880" y="2182320"/>
            <a:ext cx="7010640" cy="355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is effective use of language in everyday si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’s abilities determine methods se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should be within meaningful contexts when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dence-based 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s should not focus only on one deficit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0066"/>
                </a:solidFill>
                <a:latin typeface="Arial"/>
              </a:rPr>
              <a:t>LANGUAGE DEVELOPMENT THROUGH THE LIFESP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70106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ing to be a communic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inguish caregivers from strangers by 2 wee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3 months learn stimulus-response seq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to 4 months, rituals and game playing emer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to 9 months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ntionality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ve behaviors emer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ly, gestures appear without vocalization but are gradually pa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ing to represent and symbolize is strongly related to cognitive abil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ation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cess of having one thing stand for an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mbol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Using an arbitrary symbol to stand for someth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66"/>
                </a:solidFill>
                <a:latin typeface="Arial"/>
              </a:rPr>
              <a:t>INTERVEN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tenets of good teaching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desired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e client to resp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d with reinforcement or corrective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gener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 occurs when there is generalization to the everyday languag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66"/>
                </a:solidFill>
                <a:latin typeface="Arial"/>
              </a:rPr>
              <a:t>INTERVEN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ymbolic and early symbolic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(AAC)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form and continued vocabulary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functioning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ational skills, semantics, academic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lescents and adults may continue to ne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0066"/>
                </a:solidFill>
                <a:latin typeface="Arial"/>
              </a:rPr>
              <a:t>LANGUAGE DEVELOPMENT </a:t>
            </a:r>
            <a:br>
              <a:rPr sz="3400"/>
            </a:br>
            <a:r>
              <a:rPr b="0" lang="en-US" sz="3400" spc="-1" strike="noStrike">
                <a:solidFill>
                  <a:srgbClr val="660066"/>
                </a:solidFill>
                <a:latin typeface="Arial"/>
              </a:rPr>
              <a:t>TODDL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346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dler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single words; combining at 18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use a single word for various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 early inten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and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2, expressive vocabulary of 150-300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y word combinations follow predictable word-order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0066"/>
                </a:solidFill>
                <a:latin typeface="Arial"/>
              </a:rPr>
              <a:t>LANGUAGE DEVELOPMENT PRESCHOO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school Langua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anded conversational skil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rm hypotheses about language rules &amp; use this to produce more complex languag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o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 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ren with ID/MR or LD may have difficult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aregivers provide feedback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ic maintenance for 2-3 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to consider liste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 simple sequential s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0066"/>
                </a:solidFill>
                <a:latin typeface="Arial"/>
              </a:rPr>
              <a:t>LANGUAGE DEVELOPMENT PRESCHOO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523520"/>
            <a:ext cx="7010640" cy="662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 yrs:  900 words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 yrs:  1,500 wor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arning relational words and phra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ramatic change in syntax; more comple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alculated in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ean length of utterance (MLU)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in morpheme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y age 3, most utterances contain a subject and a verb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rticles, adjectives, auxiliary verbs, prepositions, pronouns, and adverbs are add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dult-like negative, interrogative, and imperative sentences evolv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What, where,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who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which, whos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 and finally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why,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y the end of preschool, children form compound and complex sentence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ound morphemes are added: present progressive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-ing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 plural, possessive, past tens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0066"/>
                </a:solidFill>
                <a:latin typeface="Arial"/>
              </a:rPr>
              <a:t>LANGUAGE DEVELOPMENT SCHOOL AGE &amp; ADOLESC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ool-Age and Adolescent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ers are the primary communication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s of communication changes with reading and writing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linguistic skill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the child to consider language in the abstract, make judgments about its correctness, and create verbal contex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antic and pragmatic development bloss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effective and efficient  communic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019920" y="6245280"/>
            <a:ext cx="266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© 2011, 2007, 2003 Pearson Education, Inc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0066"/>
                </a:solidFill>
                <a:latin typeface="Arial"/>
              </a:rPr>
              <a:t>LANGUAGE DEVELOPMENT SCHOOL AGE &amp; ADOLESC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ine conversational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rratives gain essential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graders- expressive vocabulary of approximately 2,600 words but may understand as many as 8,000 ro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ptive vocabulary grows to 30,000 by 6th grade and to 60,000 words by high scho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s become more dictionary-l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and u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ative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6600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age 5, use most verb tenses, possessive pronouns, and conj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ax: Passive sentences, reflexive pronouns, compound/complex sent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8:16:45Z</dcterms:created>
  <dc:creator>owens</dc:creator>
  <dc:description/>
  <dc:language>en-US</dc:language>
  <cp:lastModifiedBy> Information Technology</cp:lastModifiedBy>
  <cp:lastPrinted>2002-04-06T18:20:12Z</cp:lastPrinted>
  <dcterms:modified xsi:type="dcterms:W3CDTF">2012-09-26T02:00:31Z</dcterms:modified>
  <cp:revision>215</cp:revision>
  <dc:subject/>
  <dc:title>Slide 1</dc:title>
</cp:coreProperties>
</file>